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17E-9B57-424A-9EF4-3B614B1A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038-264E-445A-A580-614AE653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D2A-4C3E-4D15-B273-4E25F245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0C8-6869-4A18-93DA-CBD71234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365-BF37-4F5F-AE6D-0AFE300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909-7268-4983-ADDD-1DC3E87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C60-CE99-4A73-AAF9-9525AAB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192-F346-4044-B3C8-BEC92C1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CA5-A914-40C8-8B46-DA573180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041-9F1E-4DA1-B4D1-1CA9ADC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875-E563-46F8-BF28-BE37D82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0D8-F434-4D35-B746-E0C59FF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A5F5-E3D6-443D-AA04-8461CCDC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jpeg"/><Relationship Id="rId5" Type="http://schemas.openxmlformats.org/officeDocument/2006/relationships/image" Target="../media/image22.png"/><Relationship Id="rId6" Type="http://schemas.openxmlformats.org/officeDocument/2006/relationships/hyperlink" Target="http://www.uranometria.ru/stump/photos_m/M51new6.jpg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260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огарифмическая спираль 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Удивительное ряд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43560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ираль – это плоская кривая линия, многократно обходящая одну из точек на  плоскости, которая называется полюсом спирали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90920" y="1557360"/>
            <a:ext cx="47530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064360" cy="4030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6372000" y="2707920"/>
            <a:ext cx="16556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314172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ли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22100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литка является органом, воспринимающим звук, в котором самой природой зало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ЛОГАРИФМИЧЕСКАЯ СПИРА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Человеческое ухо – это маленькое чуд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3960720" cy="410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20 из 52">
            <a:hlinkClick r:id="rId6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5003640" y="0"/>
            <a:ext cx="3525840" cy="4175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429264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им спиралям закручены многие галактики, в частности Галактика, которой принадлежит Солнечная систем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466560" y="-352440"/>
            <a:ext cx="1007712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18900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огарифмическая спираль 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Удивительное ряд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284720" y="1268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 rot="10758600">
            <a:off x="499680" y="5011200"/>
            <a:ext cx="35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иперболическая спи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787400">
            <a:off x="5054400" y="515592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Архимедова спи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3602160" cy="360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35280" y="115920"/>
            <a:ext cx="55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Логарифмическая спира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является траекторией точки,  которая движется вдоль равномерно вращающейся прямой, удаляясь от полюса со скоростью, пропорцион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ойденному расстоя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223848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11280" y="40766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Т.о. в логарифмической спирали углу поворота пропорционален логарифм этого расстоя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79280" y="189000"/>
            <a:ext cx="3232080" cy="3600360"/>
            <a:chOff x="179280" y="189000"/>
            <a:chExt cx="3232080" cy="3600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32320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179280" y="189000"/>
              <a:ext cx="323208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64000" y="26028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ервым ученым, открывшим эту удивительную кривую, был французский мате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Рене Дека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1596-1650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71628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амое интересное и удивительное в том, что логарифмическая спираль возникает в нашей жизни в связи с самыми разными природными фор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2951280" cy="2877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84720" y="692280"/>
            <a:ext cx="2806920" cy="2877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132000" y="692280"/>
            <a:ext cx="2760840" cy="287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393372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им спиралям выстраиваются цветки в соцветиях подсолне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747720"/>
            <a:ext cx="3348000" cy="275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6377040" y="765000"/>
            <a:ext cx="2766960" cy="2878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348000" y="260280"/>
            <a:ext cx="3024360" cy="288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716280"/>
            <a:ext cx="63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им спиралям выстраиваются рога многих живо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595680" cy="368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77080" y="620640"/>
            <a:ext cx="2087640" cy="1814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79280" y="765000"/>
            <a:ext cx="2292480" cy="1886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4653000"/>
            <a:ext cx="638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ой спирали свёрнуты раковины многих улиток и моллю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91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5589720"/>
            <a:ext cx="76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ой спирали формируется  тело цикл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643280" cy="34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4211640" cy="358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47260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аже пауки, сплетая паутину, закручивают нити вокруг центра по логарифмической 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5T17:07:59Z</dcterms:created>
  <dc:creator>dns</dc:creator>
  <dc:description/>
  <dc:language>en-US</dc:language>
  <cp:lastModifiedBy>dns</cp:lastModifiedBy>
  <dcterms:modified xsi:type="dcterms:W3CDTF">2020-12-15T18:36:44Z</dcterms:modified>
  <cp:revision>2</cp:revision>
  <dc:subject/>
  <dc:title>Слайд 1</dc:title>
</cp:coreProperties>
</file>